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1CF-2BF9-43FA-B2D3-489D6D61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FCE-941B-4F38-AA92-3C266B37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162-08D6-4ABB-A6F8-66F4D58E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0FA-B373-4897-8F8E-7CBA8C15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5777-2619-4B9C-9BE2-BB812C90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B72F-A0FE-49F4-B9D7-6180FF43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E62F-D333-48C5-A31F-970A28FF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4DD8-3115-4C74-B35A-28BAC606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E9E2-B187-40ED-8AC8-486EBF02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FA4B-41E8-4A6D-8072-965F252C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0DDB-2C93-4AC7-BEFD-F2D1C47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564-C741-4B9E-AA12-25D2EE5A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9915-2677-4D89-9EDC-068B5E2E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BB23-4105-4365-AD37-C3E6397F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EE5C-54CB-48C8-B7A4-90897501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58F6-F1EF-41E3-B4E3-5AC19EC6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9804-3C07-445F-9B91-8CA74FF8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D57-D595-4040-B393-B1617626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E91-4EC5-4B7C-846F-F79E714A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E19-7C2C-4E8B-9732-2E54B04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C30-D6A1-4552-A0C5-4A077D18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86F-8C72-4AA0-9760-E2818FA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5C4-16BB-4FFC-9F1A-2513C107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2E5-4DB4-405F-A690-36FF24D5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163A-2E27-4C06-BD88-5368F45CD5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9B4B-CC71-4794-97C9-446F474539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Picture 3" descr="http://www.cssd.us/images/medicalinfo/moles2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healthprofessions.missouri.edu/cpd/RT/CRCE/images/NRP/6.jpg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mon and  Usually Benign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aafp.org/afp/2008/0101/afp20080101p47-f4.jpg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Rectangle 9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4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Picture 5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Picture 4" descr="http://s3.hubimg.com/u/1576434_f26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Picture 4" descr="http://www.adhb.govt.nz/newborn/TeachingResources/Dermatology/Miliaria/MiliariaCrystallina.jpg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skinsight.com/images/dx/webInfant/miliariaRubra_31837_lg.jpg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Picture 4" descr="http://www.skinsight.com/images/dx/webInfant/supernumeraryDigit_35129_l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are and 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Picture 4" descr="http://www.jle.com/en/revues/medecine/ejd/e-docs/00/04/12/B9/texte_alt_jleejd00140_gr1.jpg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Picture 4" descr="http://img.medscape.com/pi/emed/ckb/pediatrics_general/1331341-1331364-909549-909619.jpg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Picture 4" descr="http://download.imaging.consult.com/ic/images/S1933033208902378/gr25a-midi.jpg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onganat.org/seap/reuniones/almagro2000/casas/images/ni/ni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icture 4" descr="http://menshealth.about.com/library/graphics/PHIL_2246_lores.jpg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Picture 4" descr="http://pathmicro.med.sc.edu/mhunt/rubel2.jpg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Picture 4" descr="http://www.pediatricsupersite.com/images/content/idc/200809/wyd1.jpg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Picture 4" descr="http://www.pathguy.com/sol/14137.jpg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Picture 4" descr="http://genfir2.org/ibis-birthdefectsorg/start/images/aplascut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Picture 4" descr="http://www.sahha.gov.mt/showdoc.aspx?id=487&amp;filesource=4&amp;file=fig07.jpg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ealth Services Department</cp:lastModifiedBy>
  <dcterms:modified xsi:type="dcterms:W3CDTF">2010-05-25T00:00:28Z</dcterms:modified>
  <cp:revision>26</cp:revision>
  <dc:subject/>
  <dc:title>Normal Dermatologic Findings</dc:title>
</cp:coreProperties>
</file>